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AEF4-0506-4E8E-B3EA-2D9EE630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85A-A601-4778-AA70-8D733F75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AC1-9226-4F7C-BC6C-1746B505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041-80E9-4693-864E-0DC8ED40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02D-DD98-4E48-BF28-B20B1A3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E72-5A8C-4FB9-BED4-9DD7F5F0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DBD-1439-47BA-AC92-ED098FFF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2CCB-3348-4360-8A26-0763C96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B7F-48E1-41F2-AC50-786AE288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E77-4186-489C-9C62-91D0BCC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871-ACFB-47A4-850E-81B2022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BCA-B822-4403-AA56-E5DAC33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279E-7787-4A0D-A013-CA10AA7A3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mad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w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48Z</dcterms:modified>
  <cp:revision>5</cp:revision>
  <dc:subject/>
  <dc:title>Words in a “Snap”</dc:title>
</cp:coreProperties>
</file>